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5A53-CF99-451C-BCDE-B55DF67E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C6F1-38B3-4EB9-8D69-2DEA12E9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EB79-FB04-43CE-B1F7-B2DFF39D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59C7-0783-4812-BE26-D613FCD8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C304-23CA-4D3E-9AEE-8F0D9C08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447B-0177-44B0-AF53-637AC938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DEF2-78CA-41E1-9A1F-7F16B9FA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316F-D65E-4470-A7F0-2A1E08BD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94B5-F045-4254-82C9-D7D87230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D32B-384B-4E9D-81FA-A0AE8FDA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ABAF-9ED9-4107-91BA-A772A505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AF9C-D203-4941-A1CC-01661907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6D00-33FB-4A62-BB0E-6BA00972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A5BB-AE6F-4783-B224-5F4D7B60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A2EA-FD8C-4024-BFFD-48541939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0C79-9C26-4E8C-9679-7B9844CD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8A0C-4827-4663-A262-DF96436B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98E1-3F78-4A7D-B304-9B66857E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B99C-F278-4906-903F-A1815749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DAFD-02DE-4712-8D1E-8FF359C9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F292-85F7-4631-A307-D887E644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EF51-E62D-4FAC-8092-005EA750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DD85-3DC7-4D48-A9BB-00E19A2F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CEA-A3D9-44E0-B13B-1C28B4CA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BCC5-65D7-450F-916F-6BA03B164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9FFF-8C53-4ABA-B86B-838A1479CE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pagliaro@seymourschools.org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Twelve_Tables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Rome Review</a:t>
            </a:r>
            <a:br>
              <a:rPr sz="5400"/>
            </a:br>
            <a:r>
              <a:rPr b="1" lang="en-US" sz="3600" spc="-1" strike="noStrike">
                <a:solidFill>
                  <a:srgbClr val="ffffff"/>
                </a:solidFill>
                <a:latin typeface="Albertus Extra Bold"/>
              </a:rPr>
              <a:t>Part 2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r. Paglia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ymour High 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ff66"/>
                </a:solidFill>
                <a:uFillTx/>
                <a:latin typeface="Tahoma"/>
                <a:hlinkClick r:id="rId1"/>
              </a:rPr>
              <a:t>cpagliaro@seymourschools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Copyright 200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oman Expan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Punic W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wars 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against Carth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Sic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Hannibal &amp; Elephants vs. Scip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nibal won @ Cann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pio won battle of Z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arthage destroyed at 146 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o urged “Carthage must be destroye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cato"/>
          <p:cNvPicPr/>
          <p:nvPr/>
        </p:nvPicPr>
        <p:blipFill>
          <a:blip r:embed="rId1"/>
          <a:stretch/>
        </p:blipFill>
        <p:spPr>
          <a:xfrm>
            <a:off x="0" y="4943520"/>
            <a:ext cx="1333440" cy="1914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00054371_000"/>
          <p:cNvPicPr/>
          <p:nvPr/>
        </p:nvPicPr>
        <p:blipFill>
          <a:blip r:embed="rId2"/>
          <a:stretch/>
        </p:blipFill>
        <p:spPr>
          <a:xfrm>
            <a:off x="6095880" y="1066680"/>
            <a:ext cx="30481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esson Summa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Roman society divided into 2 classes: Patricians &amp; Plebe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 divided into 3 bra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ansion brought wealth and prosperity to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y it matters now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f the basic values and institutions of the US, such as civic duty and a separate judicial branch, began in the Roman Republ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Roman Republi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Ide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: Early Roman society was divided into 2 unequal cla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ernment: The Roman Republic had a government divided into 3 parts (like the U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sion: Rome increased in size, conquering neighboring people, to grain wealth, power, and l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arly Roman Socie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ed as farming 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owners served in a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farmers grew rich, built e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p between rich and p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m life: led to effort, discipline, and loyal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 Roman qua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arly Roman Socie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unequal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Patricia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upper class, more r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Plebeia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ommon farmers, merchants, few r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ld v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ldn’t serve in 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sion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ricians forced to explain rights of Plebe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Twelve Tabl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. 450 B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publican Govern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Legislat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Sen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 patrician me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erved for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ised lea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Assemb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cted rights of plebe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publican Govern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Rectangle 3" descr=""/>
          <p:cNvPicPr/>
          <p:nvPr/>
        </p:nvPicPr>
        <p:blipFill>
          <a:blip r:embed="rId1"/>
          <a:stretch/>
        </p:blipFill>
        <p:spPr>
          <a:xfrm>
            <a:off x="835200" y="1719360"/>
            <a:ext cx="814356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roman_republic"/>
          <p:cNvPicPr/>
          <p:nvPr/>
        </p:nvPicPr>
        <p:blipFill>
          <a:blip r:embed="rId1"/>
          <a:stretch/>
        </p:blipFill>
        <p:spPr>
          <a:xfrm>
            <a:off x="380880" y="396720"/>
            <a:ext cx="84582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publican Governme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US adopted similar sys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tizenship important to government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izens’ du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V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Pay tax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erve on ju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Serve in milit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efore the Punic War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Picture 5" descr="mediter218bcs"/>
          <p:cNvPicPr/>
          <p:nvPr/>
        </p:nvPicPr>
        <p:blipFill>
          <a:blip r:embed="rId1"/>
          <a:stretch/>
        </p:blipFill>
        <p:spPr>
          <a:xfrm>
            <a:off x="914400" y="1371600"/>
            <a:ext cx="74106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7:45:29Z</dcterms:created>
  <dc:creator>cpagliaro</dc:creator>
  <dc:description/>
  <dc:language>en-US</dc:language>
  <cp:lastModifiedBy>cpagliaro</cp:lastModifiedBy>
  <dcterms:modified xsi:type="dcterms:W3CDTF">2010-12-20T13:40:12Z</dcterms:modified>
  <cp:revision>31</cp:revision>
  <dc:subject/>
  <dc:title>Rome Review Part 2</dc:title>
</cp:coreProperties>
</file>